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667-4F1E-4C5E-BA6F-B36108A5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B30-F33E-49DF-A1B9-F3B5A75A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B0C-3E56-4939-B235-54D5255B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C63-A3EC-4FF6-A2BA-52681EDF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54D-455A-49A1-8FF4-39A68802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1E2-E9BD-4FFC-B5A8-328927BC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761-C07B-4EAD-ABF5-2CD951A3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4DE-7458-457E-869B-87849E55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C92-DA84-43DF-828A-9C2F5BDB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87B-9BC6-4F9D-8540-93C4E184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85C-E983-4033-B193-E5A1E3EB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7F3-3A59-4396-9FCB-8C798E63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8FB8-9F06-430C-80A4-8172E85A2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1 Prerequi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the set of real numbers in order from LEAST to GREA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What is two-thirds divided by one-fif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Turn  into a mixed number and into a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19320" y="2514600"/>
                <a:ext cx="16761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-Õ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295280" y="3048120"/>
                <a:ext cx="129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r>
                      <m:t xml:space="preserve">Õ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7.  Janice solved the expr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got 1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Is her answer right?  EXPL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" y="1066680"/>
                <a:ext cx="12398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8.  I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then what does x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38280" y="457200"/>
                <a:ext cx="2895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9.   What does each ? stan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905120"/>
                <a:ext cx="27432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·</m:t>
                              </m:r>
                              <m:sSup>
                                <m:e>
                                  <m:r>
                                    <m:t xml:space="preserve">x·x</m:t>
                                  </m:r>
                                </m:e>
                                <m:sup>
                                  <m:r>
                                    <m:t xml:space="preserve">?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f>
                                <m:num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?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33720" y="914400"/>
                <a:ext cx="449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OC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 1.01a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Laws of Expon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209680" y="685800"/>
                <a:ext cx="30736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362320" y="609480"/>
                <a:ext cx="1333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3.  Find the volu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2743200"/>
          <a:ext cx="9983520" cy="254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998352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676520" y="2666880"/>
            <a:ext cx="2286000" cy="1981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4.  I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 does m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666880" y="838080"/>
                <a:ext cx="426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438280" y="914400"/>
                <a:ext cx="23749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·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09680" y="762120"/>
                <a:ext cx="2133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01:28:56Z</dcterms:created>
  <dc:creator>Sharon Fieldman</dc:creator>
  <dc:description/>
  <dc:language>en-US</dc:language>
  <cp:lastModifiedBy>Sharon Fieldman</cp:lastModifiedBy>
  <dcterms:modified xsi:type="dcterms:W3CDTF">2010-11-29T01:43:38Z</dcterms:modified>
  <cp:revision>3</cp:revision>
  <dc:subject/>
  <dc:title>Goal 1 Prerequisites</dc:title>
</cp:coreProperties>
</file>